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C83-8AC7-4C5D-8B0B-F2C25456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929B-90E3-4E72-AE1B-265A898B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69655-FBBB-4CDF-9765-2DCD934C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7B5F8-7662-4BEF-BBBA-D72ED35D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39955-119F-4AE9-80CE-86635D5F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25A25-13F8-4E3B-92F2-14827651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C9198-67B3-40B4-8DD3-175D5D66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FA9F1-F32C-4813-8A41-07FAA3F4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9703D-9AF4-4195-BF6F-C6CD5B69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49B2B-C4FB-47E1-9E3E-A9103E57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F7B0A-6FA1-401F-99E2-1CA8E11B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B8E95-0AB0-4FD4-8CD2-768027CB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8D0-CF2C-405A-A385-BF4C7153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8D8C7-7A92-424B-9423-2F4BDE92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422BA-DB0B-406A-B93A-30C1A244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75D8D-BDC5-48C8-A88E-9768FACD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D2396-CFAB-42DA-A1FC-D553C877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ABBD5-098E-44CE-9397-DABAFC61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E0A01-ED22-4613-B6F4-D9A15342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F1728-928E-4C22-BCB3-3144D514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32E99-A9D2-4B65-BC2E-5BC4BBE2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C6214-8ABF-4CEF-8830-7163A057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BFEF9-DFE8-48B7-A9B2-A79F8CA0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C010-AB98-4274-84C1-B8FCD587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F8A49-99FF-4F27-A429-F59F1795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2EF3D-74AA-40D3-A4C6-87199927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E5571-2188-4895-8449-6DACC404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9B4AE-16EB-48C0-A84E-BAB2A366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EA6C1-5A8A-4266-B4A9-8DEEC78A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F0974-5D5F-42D4-9359-3D5ED4D5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A1834-2D59-47F2-B197-E6A7C2F2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6A658-0547-4160-A940-35243E05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11F5E-888A-4AD5-87D0-304FFFA4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662BF-15EF-4D4E-94EA-AA984929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387A-759C-41B2-93B2-63EAA142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1AC8F-AEF7-4811-9BC6-46F48065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C4E0E-77ED-4B35-8314-CF7D9EC0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16A05-87BE-4433-9E10-DBB8FABC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18AE9-1A48-4269-8FB0-46023156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F8D3F-08A2-40ED-B839-A92BB46E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073A5-81C4-4DB4-BF55-E8FBE957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32A1C-12CB-44B2-B4A0-308E9500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3C9B6-0922-4075-A831-60DF54D0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A6D2E-43D9-4616-858C-AA87E427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0E12B-1FB8-407E-A586-D47B5D16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245D-0153-47AB-A450-580D1820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51B9A-1548-4651-BEFD-7E130857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6884D-DE91-4CF1-BC4F-4A637E7C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224EE-6FB3-4599-B854-988BFDBF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A3C2C-50B2-4493-9003-44C30877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EB960-434C-4CF0-80A0-878BB4B3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C63772-FE8F-4B06-B68C-AF14EC5B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C13D4-2F80-412F-A5CC-6CBFE5D3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010CB8-617A-47AA-9BAC-B65C0130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8C0EF-EEB2-4DA1-9618-C49DB1A7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BFC7B3-6BCF-4BFB-900B-4526186C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3858-EA18-4A27-BC68-21D7B5C1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E9644D-1C2E-4A13-B7A3-1054EB8E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05BE8-E333-4B62-940E-6E33BCAD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D81F71-7BE6-49F0-9A98-7B650453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622D0-A0C5-4405-ACFA-25504417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E2219-133C-4229-B2C8-A3970C2C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35843-0FFC-4918-90A2-F229DAF0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57DBA-55A0-4770-B567-23D56F5A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BCACC9-5616-48AB-95FC-B97AA2C5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F20EFA-45A5-47C6-BB7D-04342CF5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E29576-D1F1-424E-85D2-B29C2397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9D52-B32A-4B69-97BD-334571E6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3D35A1-7354-42E9-9324-DD305122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09A836-B900-450F-A211-C6211282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9EAFC9-DEDC-49CD-B986-BF892933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B922C-4DB7-4466-A259-F182CCD9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F6E6B7-4834-4F28-85CB-100CFF45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E1A0D1-2736-48CE-B737-D7255D3B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B321B6-3193-4A16-BCEB-A801E9AA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294E91-4902-48AD-B112-05AE3ABA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4436E1-D3CF-466E-B867-024904E4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B19D98-14FA-40C1-B888-D1133E82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F2B6-3067-4892-BFCD-E68DEBF9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BBB857-F6B9-4121-BD29-AE5BE2BE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1BCF7B-8763-49D6-AC55-9338B5EE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D32994-93E5-4805-9D9E-51D3BE0E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C7EE1C-3CBE-4695-9D10-AFB9F45F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7D94F5-F5B8-4655-9052-77E70C12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6D34FE-7BD7-4456-A550-E9106E50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1D67E0-C943-488F-95B3-9C8B65A8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666FC0-DD95-4EA4-AC38-E9B005A4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AFDDEF-A93E-40C8-91EB-CAF88EED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F3ECB8-C5A9-43DF-B7E4-18697B7A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4952-91B0-4CEA-B533-ECC81CE4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54DB42-2835-4A90-AE4B-F304995A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775954-B566-45CC-A66F-23A43B51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802938-05DA-4D24-85D0-6539EC85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F0FD7D-D449-4971-8A5E-4F3477C0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656F1D-3236-4842-8539-786EFF27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13D356-CAC8-4E17-82E2-5EE2B598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E799B5-CF13-4295-A009-D26B5EAC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CAE46C-70C9-4CB0-88D4-B3D77E81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3B4C90-4A50-48DD-B25E-38B9DD6B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9DCE71-6080-4833-B988-0465E1DD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51A7-DA73-4872-8A3B-94BDE8F0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2DAC44-CDEC-4823-BA50-21343C76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A233A6-4CE0-4800-A7E6-4B768480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C7582-E48B-43C0-A81C-667E16D0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EC0C32-8A03-4F06-A073-A61AA520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C0B596-ED48-4B4D-81DD-F3F7972A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3CCB77-876B-4EED-96D6-31FE7C1F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C7C9F2-D958-445E-A604-55D86242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2E983C-F959-4050-8168-64A1D5F8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F9035F-32AC-4A87-870F-A5F8EA1D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D42BD3-2C80-49F1-BC8B-1854AFEF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FE3-5C25-4AB5-9EFA-85F66BAD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C6FB-7C83-471F-9532-516412FC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18D011-44F3-42E7-8EDB-53F4BDEC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42867C-6E5D-484D-A790-370D10BE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6FF3B3-8E8E-4EC5-B80A-E54EF706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FEEDEE-DE2A-4A16-BA6F-E6297223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D6375F-1832-4D1D-9CA8-A4130D34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2C8B6C-3C5E-4F14-86DC-5FDB7667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5B6362-09F8-42D9-9288-6F160560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198C8C-1E76-4544-BD05-5E9144DA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AE2AF8-652F-4783-9CB7-ABF79027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5F9674-F3B5-4E1B-8AD9-8B8DB2BA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564A-948C-4C85-89EA-139A2C06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1F3109-F2B7-44F1-811F-CABB0EE8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FDD77E-1B70-4409-B0E4-B6231683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213E34-4F2B-44CE-8EBF-8C33A8B6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DCDD55-9431-4597-BF27-6C233B33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3927F4-3665-42CF-B00E-896D224B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1EC260-4475-4860-ACBC-36818F08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072C30-B91A-42A3-9C27-9131F043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DCA332-ED37-4F15-BCC7-110B02CE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5FA171-E5E6-43CE-9786-51DDF774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AB4FA1-9298-46EA-AC6E-C1370215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6999-E05A-4DF4-B27F-644D20D5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95F76A-BF1C-4E33-B27D-F5BEA959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559CC7-07B4-436F-8367-9CF12E42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8965DB-5BEC-4D2B-888E-1B96F3EC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B9AF6B-B3B2-42A6-BFCB-BA7B7B0A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92AE19-1145-4651-B8DB-1E85B688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4E7C9E-B589-48E3-9C38-89C812C2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395F44-BA06-4D20-A9DF-076019A1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4A9576-24F1-4F6F-98C7-54877FA7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5031C5-1C86-4901-8274-32C99B2A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576B5C-4BFB-4C44-9809-E06AA3CA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F4E9-03CB-4693-BB9F-D6CE43F4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095529-6A3B-44A6-AA29-E37D8168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A7C66C-25B0-4A41-919B-C7A32AF6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5CE798-9752-472F-A4CA-BFF16578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1F97A8-914E-419B-BC06-9A9C273B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35DC6D-9AD5-41D5-9BEF-9D3D214C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D0A6FC-A8FA-465F-B274-C2085997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13CBA2-1C57-4D25-87EA-38DD3E1F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8B6DCE-7185-4E5E-88F0-9EAAFA43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80DDAC-34A2-4513-BF88-335CC29F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2D0D93-66B6-4F98-848A-8D24FBC1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E118-D05F-409E-98C0-DB226F99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488DCF-D674-4187-A16D-1730F7E7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EA0EF8-4387-494C-AD4D-D8392573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FCEEB5-C5CF-4EE1-BE4C-D8B886EE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4B5C36-BE93-4E3D-AB74-BF2043FB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2E1BA6-F496-402F-92D3-2C2D2887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5E000F-1383-4C34-8214-F0186B12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7CF1E0-9D14-439C-B642-5134A069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9D4B12-DBCA-432C-8A34-79072812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A25CDF-7F09-4789-A356-07B68D93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E770ED-3D17-4108-BC7F-ECFC8CEB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075F7-B17E-4859-8510-4B665D50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D07F30-A136-476A-AFA1-2579606C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D0BF00-C4DA-47ED-84A0-D633AEF0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BE519B-70EA-4A98-B806-53CD3385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720455-98C3-4CD0-A508-CDDA1A09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436F54-C52C-49E5-8729-972A813E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1DC9D5-6FEB-49F3-B733-85EBA1AC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FF783A-6267-41F7-A226-B0B9D29F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003995-BEC5-4BB4-ACBE-3432D79A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58A2B9-8A90-4BDE-A4C0-FAE97EC6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C38AC3-5DF7-4F5D-AC2C-49D460B6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520E2-82E5-4958-8A6C-61180780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498E3B-13BE-4FBD-9F36-927B95D0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16E19D-D41D-44EB-9791-CA051B5D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802472-70DF-42F4-881B-3D64209E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5A9195-1AE2-4D88-A88E-E7263B2F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2FDF35-E273-40A3-A2A2-EF7D34B9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6204A3-92CD-4F30-8402-FE0E5C28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406F58-2746-40CA-8B6D-622F4696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3E48E5-ED3C-4F73-9EFC-A45D353C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BC3F9E-0305-4984-9236-03400AFB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CEC5E7-FD04-47E6-8E00-93E56FD0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1AF12-11A4-4C75-B7F2-2D01D764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8D38CB-2ECA-4239-88B4-6A98C89D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A95D20-EF00-402A-A15B-20524AC6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773031-E970-4598-9C77-D2643058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0105E6-97DE-481F-81E4-692D7D07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DC2F3F-6471-461C-88FD-65DDB72A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4640EA-AC45-4F0B-82FD-810F54CB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5F7883-B5AC-42B4-8511-FD08253E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9BC89B-D298-40BA-BAC6-ADE9A7BB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5A5026-DF7B-47D9-B1A5-3C0B9163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09B53D-F735-4EED-880B-60223C11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85714-CE98-47EA-B50D-5D64E165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1A4218-C3B8-4E08-808D-0D1A89FC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2B793B-3D38-4348-852B-45A98DD3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F683DF-5947-4EF9-876B-DAD825C7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FE2FE5-B1D4-4230-B1D7-BE170D0E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70A831-ACCA-40FB-B414-C95F8BEA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B2DB6E-A443-467F-A93F-BDBE5598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AAA506-65F3-4711-A784-24A6C7D3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F29E76-79DB-48C0-8857-1E9B6521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1DE023-C443-4759-9FFF-C3321E2F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8685A0-7BF4-45E8-8705-7DA4579E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8C537-CA73-4060-8EDF-316D7D5A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72FF08-C3DC-4D96-A475-09E448F4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76CEC3-B7B0-4E7C-86A5-9A9F769F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05C821-88A0-45E2-AD12-43970799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47E86A-D500-4A7C-9E1B-13B882EA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47D65A-6766-416D-BC84-18CA7F3E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39FE6D-BDF1-4843-AEFA-4FB9D121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677A13-3AD9-4FEB-A404-0DEEF420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26E826-6807-4B47-8EB4-F7D3578B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3716C9-AAD8-4E62-B375-C68C625E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7D2659-DAB8-4B10-91BE-DAA589C9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9AF8-818F-46E2-AFAB-8FB8348B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63AE5-B7FE-4E78-A72C-07EA8D6F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186F0C-4CED-4FF9-96B0-4587ABA9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D7601E-BD7E-4F42-AB80-02B9283A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F74540-676F-4767-8428-DA425170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19AEA2-9B93-4E5E-9DB6-D8BA5F55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14EBDC-4DC7-4750-B610-685CADE1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9C50AE-B203-4B73-BE45-492920BC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7E60AE-F2FC-4F96-8654-BE1B1FB8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591D03-A1D1-48A0-81A3-9E42914B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EACE2F-8C61-4554-8785-C0DC5984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9CDDE6-4ACA-4B92-A66E-97876B8A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0B584-2A6B-42BE-85CE-BFDEA236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0641CA-1FF3-49E5-BFBF-E278DD5D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CC1099-2C6B-4622-B169-DDC0D44D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B6C512-A7E0-4174-BC59-F9E8D19B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8A966F-A1B9-4E1C-87BA-EB3BC919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94A06F-62F7-41FA-82F5-569E5E80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ED8F97-3B69-48DE-96DD-BC8C4AFA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3C6115-E7DD-48B0-9090-25618E88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68D5CB-3CAC-4B1D-B6EC-97958784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F002F3-111C-48DF-AD4E-0E9ABA9C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92C258-D561-4F34-8B17-4320AABF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6C19F-5F70-4C5E-AD6A-8525EB0C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D0BFAF-2FB5-41CB-872E-BE5B130D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E6ADB4-37C0-4AF2-AEF2-F33E1349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72187F-4C3C-4A43-8DB6-C337BFF2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52488B-DD8B-4114-9109-4B821CD7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6491A3-0FC2-482D-AC22-1CF3E1F5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E7BA85-F04C-4E06-BD9C-EA854A5B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BB54CF-E483-4A72-BCC9-415A13F0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3E62D9-4AAB-4E92-B80D-4D0FEF42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F1E60A-1EE5-46A8-A9EA-7AF09B4D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3A30CC-7737-4A9C-ACF6-D7F45FF1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A288C-3996-4BB1-B559-BD5FF04F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223D6A-1A6D-4645-9F73-60893F73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8B47D9-96DF-46A0-AAF0-AE64CB67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1A66EA-A9D8-4CAB-899D-36FC874F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DABE3C-8981-42A4-8E30-24BD6E3B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A53D38-15C0-483E-9FCD-17016D75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30D04B-09DD-4C45-85CD-3580D017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1CDB97-2AE4-4ED8-A647-8D42ECE0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8833C5-FEEF-4AC1-8498-7CD23F6B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FB1DA4-F99A-4CD5-A480-58E2CD0E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ED27972-278D-45CC-9648-3883DF5B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A6124-E8A4-477B-91BC-45E70D7E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A9BBBF-C6C6-4AA6-82BD-B2D53851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D76946-C64B-4C75-9DFE-228DA034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8B1FBE-8719-4227-993D-4DA31483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6DC282-1553-4951-AECE-8AD86248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831DBC-D1FF-4B94-B9B7-5EF280DE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41AA20-3C36-417B-ADAC-AD1C0D0D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5913F7-50AA-4ACF-A7D1-1306FB22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328C4F-F50E-4D35-8709-3AC277DE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E2B3C9-A431-41DF-925A-D360534C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AF8535-71F4-40AA-BA1B-3E77829B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2D607-5EB1-4EE1-8111-559CC14C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F12C8F-D435-4CED-8F5A-7784AE3C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71A3A2-E677-4C70-A38F-6FDB3379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AB7787-A896-476E-B3DD-93B39C12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7893B0-8ACD-4E59-A026-795570F6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E7273F-62CA-4C21-9888-5B7958B3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2A97B8-13BA-476E-8C7D-6BD38750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A5E0DD-7AB0-472C-9D60-A77D9324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B615AC-08CB-447F-8FB1-678DFBB7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AA8F57-91D2-4603-B9FE-0146EAE3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FBCBE4-A88B-45C5-AB35-4CDCC3FD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ABF5B-2C9E-4637-A8A7-B804623B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6CED3A-07C7-4751-AF34-A0CB49D6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D7CBBC-67C2-4DD2-9B1A-5BFCD2BE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328492-8DB3-428C-AD71-3ECCD64B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A5639A-A942-4A5C-9F57-E69BEAB8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ACE099-915F-4959-8CF7-2D19675A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B43CA6-E0D8-4920-939E-8F728AB8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2F6EC0-DB2E-40E1-8D52-A296DF3A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976479-479E-4897-8697-9678A050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F75F74-CB5E-4B52-BEF6-F5642782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F9E44A-9C71-4FBB-9E18-6748DF87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946A9-1052-489A-8AD7-B42BEAB3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8CC720-BC2F-4E78-978B-748DFD6E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DCDAD5-4B7F-40E8-BA9D-939667C4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B52134-256B-4234-A58C-01BB518F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95F56-A9A5-4FC1-AC52-ADEF9925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0DB9A-AFDD-4533-BE6D-8114B84D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C5EF-246E-4AD3-A128-E6556B82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AA71C-78D1-4E49-831F-C95B2BC5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366E6-1E30-4426-9CC9-C82FF47B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2AD31-66E5-479D-A3C9-29718669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1113E-DFFB-4883-89FF-4261C36D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F2E35-45EB-4963-B20C-CD3038F8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FBA46-9A3C-4236-8FFA-1005F2DE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AAAD3-104D-4F51-8EC9-2131FE10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24F88-2815-407A-8076-E278E843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94524-BED3-41DB-92C4-48F8B18A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F76F5-EB34-4BA5-9BCC-C2B1411B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335D-A556-458F-B966-75DA48B7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AFA46-3632-4728-AA02-4E56D8B3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6E1DA-8585-4380-8445-19B24D75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BCADE-BCD4-4617-9DAA-8F55FCD5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AC99F-1AFE-4B32-A2EF-058D8853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B8BA1-AFA5-42FE-8E9A-B14DA86B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CFCCF-F5F3-4CD5-9C5A-F77C4BE0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F8071-4259-43DA-9442-BEC90C8E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55085-07C6-49CD-93E4-8930BCE2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4AF68-D991-4573-850B-07F9A577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B4C8E-9351-4A57-812B-3A1913B2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EA48-D3D6-42F6-9E75-06E473E4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9E389-2D8E-4A3B-968D-2E93AB54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9C30A-E570-43E1-AC99-9EA4E3DA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279A4-0303-412C-AE6E-38B6B521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CFA62-5668-4724-896C-448E33DD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188D1-5CB4-4C45-B613-E4267BB4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9564C-1172-4913-AB39-60A4EC0F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AEC11-FBDE-4DBD-8A72-2FA6F048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066E7-DDA4-4070-9BFD-C4776241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210AA-2C2C-4583-93DE-FB51435E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DD97C-C537-4E57-A74B-BD4C9B09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826-5098-4CEC-96A5-8C4EC7A9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F8E7E-C90B-4179-A6DB-BBBEFEAF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AE75B-E1D2-4BBB-B5E8-9130F9B6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8B20D-CC3B-44DC-8516-7D3E4716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1E044-CE8C-43E1-AF77-830CB76C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7243C-66F1-463E-B078-607DF0F4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B9711-865E-4A09-ACB0-7ECFDC6C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38C1C-E495-4AC9-9D1B-FB4EC802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6FBCD-7788-4636-86F0-6346C5B0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834E5-EBB6-4FAB-89F0-EC4E2B80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6042C-A261-4740-987A-C748DEBE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F87C-001E-4C8C-9297-185FF1FD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6C6F1-3815-47DC-A1B3-EB80B18A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637DD-5D6B-4652-8AC0-84441724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80671-F176-404C-BE4A-B8C063B9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DCDF5-BF21-4615-BC52-DBC1DF46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F99EB-E5AC-4E9D-8F5D-E74AB618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4C969-7A8D-4969-8B17-2F7987CC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5C703-0F5A-485D-8E54-0570F939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D2257-099A-4094-8B4F-19B94554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25069-018A-47BF-A727-4170A44C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1C8F1-E3EA-48BD-B47A-749574EE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A13-72CD-4892-AEA2-B883AC11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F6C04-5E23-40A3-9B26-D650EC45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494BB-D452-4B5A-8887-42985035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368A3-4CDB-4E60-8A5E-4FBE7BA6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3D5CC-9FE7-41B1-BB99-A234124E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7EBE9-8AA8-4059-9E14-E89F7004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7EA3F-1041-4B59-954F-39A1A9BD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CF5AE-4C1B-4A10-9BC1-84841006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D9D00-41D4-4D30-A400-3FE492CF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C7E40-B564-40E4-AAF8-1A04675E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AB956-F187-404A-93BD-FA3B1CA3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78D7-0551-4A39-BF87-75D9DA9F0A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637D-2411-4C11-813E-A61C307FE2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8C19-D31B-4436-BA8F-76F2D28182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1748-4A74-4E00-91DE-08CDC4CE82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87B5-65FA-492E-B705-AF4580A99F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8B6E-1EB9-4C34-9594-ECEC7640D1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0B6F-24A4-4391-B4C4-A9F9C5D952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C6B9-180D-4EA0-81BE-088D1B1A3D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3750-AF66-435D-8736-913AF099A6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9AD5-737B-42A6-B5AF-288E3DE949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A94E-29E1-4D06-B7F2-A9AA910F1E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C386-2870-4786-BA12-A7AF948BAE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91F5-A88D-4472-B7A5-9A915BDFCE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2958-3D6B-40CA-B9B3-9DEA10C009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ABB5-5367-470F-B710-E63229A051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7EB3-DF0A-48B4-B952-723E4441D4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1BC3-EA24-4940-A3B1-294F070027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6968-797B-4490-8702-552C9BAF1A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79D5-EFDA-43AC-9586-DD6AFA91FF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C0CE-5CF3-4457-9CE0-E8D6A7EE6B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8906-5E2A-470E-9041-27E87BC522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5CF1-4CFD-4F91-89B6-CAFB7E145C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F486-DDD0-4072-82FE-D3FCDEF689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B2DC-B85B-4DE3-BEB6-CB770BD58C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F3FA-43D1-4A89-9F24-60C0F09A19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4F5E-1A35-4282-8EE2-ADF5A41BAB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F0C0-86ED-4F4C-BB07-C637AACF18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4FF1-07CD-46D1-81DF-BCAC3AB625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EE63-584F-405B-BC72-558E5DF7C8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0685-E2C8-4572-BEC2-81F1EA2EF9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3855-C7B5-4F1B-9401-A3907E5CEC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3C0A-E5BD-4DD7-BD4F-A776D82909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4FB1-EEB6-4FC0-A281-A79E37103B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FD6B-43E5-4DA0-A669-F76895703D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6D34-E473-4D1F-88E7-26C736AA26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8C94-96D0-4085-A579-07A349FB56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0EDE-A10B-4999-90BA-E1016D3C29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F006-93A8-47AE-87C8-FFEB2C496B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DB57-3B28-44B5-AFFE-DE51D79125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B8D2-9B70-4CFF-A527-28C204421D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AF7D-2759-4690-A111-9E43C594D2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84B5-83C6-43E7-B7CA-8C62369E10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5D98-B74F-4DF4-9264-F9080498BB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5F59-9528-4AF7-945C-45FD5DDBEF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4E1B-E902-446F-B541-345CE0FB7D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1C83-C69E-420A-9B27-F75AD5B710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DA26-BE06-4AB3-8DD9-C5FA3FF215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FE30-2B5B-4524-94ED-37A459DF1B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51BB-1FA3-4F6F-9601-689726EE57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2D9D-EEC7-4EC1-BCAB-F0993B3324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5" descr=""/>
          <p:cNvPicPr/>
          <p:nvPr/>
        </p:nvPicPr>
        <p:blipFill>
          <a:blip r:embed="rId1"/>
          <a:stretch/>
        </p:blipFill>
        <p:spPr>
          <a:xfrm>
            <a:off x="1817640" y="1255680"/>
            <a:ext cx="5305320" cy="71424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6" descr=""/>
          <p:cNvPicPr/>
          <p:nvPr/>
        </p:nvPicPr>
        <p:blipFill>
          <a:blip r:embed="rId2"/>
          <a:stretch/>
        </p:blipFill>
        <p:spPr>
          <a:xfrm>
            <a:off x="2378160" y="2451240"/>
            <a:ext cx="3676680" cy="685800"/>
          </a:xfrm>
          <a:prstGeom prst="rect">
            <a:avLst/>
          </a:prstGeom>
          <a:ln w="0">
            <a:noFill/>
          </a:ln>
        </p:spPr>
      </p:pic>
      <p:pic>
        <p:nvPicPr>
          <p:cNvPr id="1333" name="图片 40987" descr=""/>
          <p:cNvPicPr/>
          <p:nvPr/>
        </p:nvPicPr>
        <p:blipFill>
          <a:blip r:embed="rId3"/>
          <a:stretch/>
        </p:blipFill>
        <p:spPr>
          <a:xfrm>
            <a:off x="71280" y="4368960"/>
            <a:ext cx="7248600" cy="1676160"/>
          </a:xfrm>
          <a:prstGeom prst="rect">
            <a:avLst/>
          </a:prstGeom>
          <a:ln w="0">
            <a:noFill/>
          </a:ln>
        </p:spPr>
      </p:pic>
      <p:sp>
        <p:nvSpPr>
          <p:cNvPr id="1334" name="矩形 40988"/>
          <p:cNvSpPr/>
          <p:nvPr/>
        </p:nvSpPr>
        <p:spPr>
          <a:xfrm>
            <a:off x="450720" y="5572080"/>
            <a:ext cx="22021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40989"/>
          <p:cNvSpPr/>
          <p:nvPr/>
        </p:nvSpPr>
        <p:spPr>
          <a:xfrm>
            <a:off x="4108320" y="5584680"/>
            <a:ext cx="22021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图片 140289" descr=""/>
          <p:cNvPicPr/>
          <p:nvPr/>
        </p:nvPicPr>
        <p:blipFill>
          <a:blip r:embed="rId1"/>
          <a:stretch/>
        </p:blipFill>
        <p:spPr>
          <a:xfrm>
            <a:off x="744480" y="977760"/>
            <a:ext cx="7172280" cy="3962520"/>
          </a:xfrm>
          <a:prstGeom prst="rect">
            <a:avLst/>
          </a:prstGeom>
          <a:ln w="0">
            <a:noFill/>
          </a:ln>
        </p:spPr>
      </p:pic>
      <p:sp>
        <p:nvSpPr>
          <p:cNvPr id="1337" name="矩形 140290"/>
          <p:cNvSpPr/>
          <p:nvPr/>
        </p:nvSpPr>
        <p:spPr>
          <a:xfrm>
            <a:off x="844560" y="2016000"/>
            <a:ext cx="22273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140291"/>
          <p:cNvSpPr/>
          <p:nvPr/>
        </p:nvSpPr>
        <p:spPr>
          <a:xfrm>
            <a:off x="4654440" y="2003400"/>
            <a:ext cx="22273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2"/>
          <p:cNvSpPr/>
          <p:nvPr/>
        </p:nvSpPr>
        <p:spPr>
          <a:xfrm>
            <a:off x="907920" y="4314960"/>
            <a:ext cx="22273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3"/>
          <p:cNvSpPr/>
          <p:nvPr/>
        </p:nvSpPr>
        <p:spPr>
          <a:xfrm>
            <a:off x="4654440" y="4162320"/>
            <a:ext cx="220212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图片 139265" descr=""/>
          <p:cNvPicPr/>
          <p:nvPr/>
        </p:nvPicPr>
        <p:blipFill>
          <a:blip r:embed="rId1"/>
          <a:stretch/>
        </p:blipFill>
        <p:spPr>
          <a:xfrm>
            <a:off x="374760" y="893880"/>
            <a:ext cx="6972120" cy="4943520"/>
          </a:xfrm>
          <a:prstGeom prst="rect">
            <a:avLst/>
          </a:prstGeom>
          <a:ln w="0">
            <a:noFill/>
          </a:ln>
        </p:spPr>
      </p:pic>
      <p:sp>
        <p:nvSpPr>
          <p:cNvPr id="1342" name="矩形 139266"/>
          <p:cNvSpPr/>
          <p:nvPr/>
        </p:nvSpPr>
        <p:spPr>
          <a:xfrm>
            <a:off x="768240" y="2689200"/>
            <a:ext cx="23544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39267"/>
          <p:cNvSpPr/>
          <p:nvPr/>
        </p:nvSpPr>
        <p:spPr>
          <a:xfrm>
            <a:off x="4654440" y="2448000"/>
            <a:ext cx="2430720" cy="7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39268"/>
          <p:cNvSpPr/>
          <p:nvPr/>
        </p:nvSpPr>
        <p:spPr>
          <a:xfrm>
            <a:off x="730080" y="4950000"/>
            <a:ext cx="2430720" cy="7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39269"/>
          <p:cNvSpPr/>
          <p:nvPr/>
        </p:nvSpPr>
        <p:spPr>
          <a:xfrm>
            <a:off x="4514760" y="5013360"/>
            <a:ext cx="2430720" cy="7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图片 138241" descr=""/>
          <p:cNvPicPr/>
          <p:nvPr/>
        </p:nvPicPr>
        <p:blipFill>
          <a:blip r:embed="rId1"/>
          <a:stretch/>
        </p:blipFill>
        <p:spPr>
          <a:xfrm>
            <a:off x="317520" y="857160"/>
            <a:ext cx="4343400" cy="2933640"/>
          </a:xfrm>
          <a:prstGeom prst="rect">
            <a:avLst/>
          </a:prstGeom>
          <a:ln w="0">
            <a:noFill/>
          </a:ln>
        </p:spPr>
      </p:pic>
      <p:pic>
        <p:nvPicPr>
          <p:cNvPr id="1347" name="图片 138242" descr=""/>
          <p:cNvPicPr/>
          <p:nvPr/>
        </p:nvPicPr>
        <p:blipFill>
          <a:blip r:embed="rId2"/>
          <a:stretch/>
        </p:blipFill>
        <p:spPr>
          <a:xfrm>
            <a:off x="657360" y="4484520"/>
            <a:ext cx="3562200" cy="1876680"/>
          </a:xfrm>
          <a:prstGeom prst="rect">
            <a:avLst/>
          </a:prstGeom>
          <a:ln w="0">
            <a:noFill/>
          </a:ln>
        </p:spPr>
      </p:pic>
      <p:sp>
        <p:nvSpPr>
          <p:cNvPr id="1348" name="矩形 138243"/>
          <p:cNvSpPr/>
          <p:nvPr/>
        </p:nvSpPr>
        <p:spPr>
          <a:xfrm>
            <a:off x="679320" y="2511360"/>
            <a:ext cx="391644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38244"/>
          <p:cNvSpPr/>
          <p:nvPr/>
        </p:nvSpPr>
        <p:spPr>
          <a:xfrm>
            <a:off x="1847880" y="3438360"/>
            <a:ext cx="14400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38245"/>
          <p:cNvSpPr/>
          <p:nvPr/>
        </p:nvSpPr>
        <p:spPr>
          <a:xfrm>
            <a:off x="743040" y="5432400"/>
            <a:ext cx="34336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8246"/>
          <p:cNvSpPr/>
          <p:nvPr/>
        </p:nvSpPr>
        <p:spPr>
          <a:xfrm>
            <a:off x="1936800" y="5991120"/>
            <a:ext cx="14396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2" name="图片 137217" descr=""/>
          <p:cNvPicPr/>
          <p:nvPr/>
        </p:nvPicPr>
        <p:blipFill>
          <a:blip r:embed="rId1"/>
          <a:stretch/>
        </p:blipFill>
        <p:spPr>
          <a:xfrm>
            <a:off x="747720" y="976320"/>
            <a:ext cx="4295880" cy="2771640"/>
          </a:xfrm>
          <a:prstGeom prst="rect">
            <a:avLst/>
          </a:prstGeom>
          <a:ln w="0">
            <a:noFill/>
          </a:ln>
        </p:spPr>
      </p:pic>
      <p:sp>
        <p:nvSpPr>
          <p:cNvPr id="1353" name="矩形 137218"/>
          <p:cNvSpPr/>
          <p:nvPr/>
        </p:nvSpPr>
        <p:spPr>
          <a:xfrm>
            <a:off x="895320" y="1889280"/>
            <a:ext cx="4246560" cy="82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7219"/>
          <p:cNvSpPr/>
          <p:nvPr/>
        </p:nvSpPr>
        <p:spPr>
          <a:xfrm>
            <a:off x="2152800" y="2867040"/>
            <a:ext cx="94428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图片 136193" descr=""/>
          <p:cNvPicPr/>
          <p:nvPr/>
        </p:nvPicPr>
        <p:blipFill>
          <a:blip r:embed="rId1"/>
          <a:stretch/>
        </p:blipFill>
        <p:spPr>
          <a:xfrm>
            <a:off x="720720" y="879480"/>
            <a:ext cx="4552920" cy="2762280"/>
          </a:xfrm>
          <a:prstGeom prst="rect">
            <a:avLst/>
          </a:prstGeom>
          <a:ln w="0">
            <a:noFill/>
          </a:ln>
        </p:spPr>
      </p:pic>
      <p:sp>
        <p:nvSpPr>
          <p:cNvPr id="1356" name="矩形 136194"/>
          <p:cNvSpPr/>
          <p:nvPr/>
        </p:nvSpPr>
        <p:spPr>
          <a:xfrm>
            <a:off x="819000" y="1914480"/>
            <a:ext cx="357372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6195"/>
          <p:cNvSpPr/>
          <p:nvPr/>
        </p:nvSpPr>
        <p:spPr>
          <a:xfrm>
            <a:off x="2063880" y="2790720"/>
            <a:ext cx="919080" cy="795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图片 135169" descr=""/>
          <p:cNvPicPr/>
          <p:nvPr/>
        </p:nvPicPr>
        <p:blipFill>
          <a:blip r:embed="rId1"/>
          <a:stretch/>
        </p:blipFill>
        <p:spPr>
          <a:xfrm>
            <a:off x="660240" y="906480"/>
            <a:ext cx="5029200" cy="2733480"/>
          </a:xfrm>
          <a:prstGeom prst="rect">
            <a:avLst/>
          </a:prstGeom>
          <a:ln w="0">
            <a:noFill/>
          </a:ln>
        </p:spPr>
      </p:pic>
      <p:sp>
        <p:nvSpPr>
          <p:cNvPr id="1359" name="矩形 135170"/>
          <p:cNvSpPr/>
          <p:nvPr/>
        </p:nvSpPr>
        <p:spPr>
          <a:xfrm>
            <a:off x="692280" y="1749600"/>
            <a:ext cx="4043160" cy="89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5171"/>
          <p:cNvSpPr/>
          <p:nvPr/>
        </p:nvSpPr>
        <p:spPr>
          <a:xfrm>
            <a:off x="1962000" y="2790720"/>
            <a:ext cx="1122480" cy="89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图片 134145" descr=""/>
          <p:cNvPicPr/>
          <p:nvPr/>
        </p:nvPicPr>
        <p:blipFill>
          <a:blip r:embed="rId1"/>
          <a:stretch/>
        </p:blipFill>
        <p:spPr>
          <a:xfrm>
            <a:off x="669960" y="900000"/>
            <a:ext cx="4857840" cy="2695680"/>
          </a:xfrm>
          <a:prstGeom prst="rect">
            <a:avLst/>
          </a:prstGeom>
          <a:ln w="0">
            <a:noFill/>
          </a:ln>
        </p:spPr>
      </p:pic>
      <p:sp>
        <p:nvSpPr>
          <p:cNvPr id="1362" name="矩形 134146"/>
          <p:cNvSpPr/>
          <p:nvPr/>
        </p:nvSpPr>
        <p:spPr>
          <a:xfrm>
            <a:off x="831960" y="1736640"/>
            <a:ext cx="3738600" cy="8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4147"/>
          <p:cNvSpPr/>
          <p:nvPr/>
        </p:nvSpPr>
        <p:spPr>
          <a:xfrm>
            <a:off x="2063880" y="2727360"/>
            <a:ext cx="817560" cy="85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图片 133121" descr=""/>
          <p:cNvPicPr/>
          <p:nvPr/>
        </p:nvPicPr>
        <p:blipFill>
          <a:blip r:embed="rId1"/>
          <a:stretch/>
        </p:blipFill>
        <p:spPr>
          <a:xfrm>
            <a:off x="588960" y="936720"/>
            <a:ext cx="7381800" cy="2876400"/>
          </a:xfrm>
          <a:prstGeom prst="rect">
            <a:avLst/>
          </a:prstGeom>
          <a:ln w="0">
            <a:noFill/>
          </a:ln>
        </p:spPr>
      </p:pic>
      <p:sp>
        <p:nvSpPr>
          <p:cNvPr id="1365" name="矩形 133122"/>
          <p:cNvSpPr/>
          <p:nvPr/>
        </p:nvSpPr>
        <p:spPr>
          <a:xfrm>
            <a:off x="692280" y="2079720"/>
            <a:ext cx="5999040" cy="7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矩形 133123"/>
          <p:cNvSpPr/>
          <p:nvPr/>
        </p:nvSpPr>
        <p:spPr>
          <a:xfrm>
            <a:off x="1911240" y="2917800"/>
            <a:ext cx="1211400" cy="96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1T00:47:57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